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BB6-4339-4EF5-B3EB-E4B74889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997-9A1F-446A-9FF8-D35F78C1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8B8-E8BA-4814-A767-7788829F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C01F-B149-49EE-9DF1-7EE7B454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5295-BB96-4E9B-B52C-ECCC341D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6BD4-0D8F-4BF9-A178-C8582A8D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B17E-DEFB-407F-8440-AED0D57E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EF67-5B05-4629-810E-A6260A72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B150-7A55-4BEF-B90C-0FDA4EE5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42CE-6602-4530-A4AE-69F3C3D8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914C-DA38-4E00-81A8-59A7619A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AE6-AD2B-4E92-A7C5-9B067330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950D-02E9-4BFF-B938-38C21AFD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68A8-65B0-4664-B3A5-440BCD57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0A5C-7417-4655-BDAD-FCA020EC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67E8-9BFE-48CD-85CC-C1183371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259F-FFDB-4388-A073-7CA7FA6C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D09-728D-4D3C-B932-CCBC037F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1C6-5CA8-4DFA-AEB6-E5EB2BA5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C42-164A-47EB-872E-9748796C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891-B7FB-4C0B-B64F-9EBDDF2F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9B7-67D8-4C19-BCB8-20EB9D78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5AB-4A75-4EDE-B3BC-29FAEF31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B2F-3691-49A4-9C4D-3772C46C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B03D-BE04-4680-A355-453D53439D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5A15-B6CE-42FC-BA3E-8F97A7B2F3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LA CLASE DE ESPANOL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: JUSTINO Y TON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S ANIMA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os toreos tradan pegale al los hend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os tores corren al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638680" y="2286000"/>
            <a:ext cx="3048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S PAI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lombi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sta Ric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7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S FAMIL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S NUMBIR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30:50Z</dcterms:created>
  <dc:creator>WSFCS Workstation</dc:creator>
  <dc:description/>
  <dc:language>en-US</dc:language>
  <cp:lastModifiedBy>WSFCS Workstation</cp:lastModifiedBy>
  <dcterms:modified xsi:type="dcterms:W3CDTF">2010-04-26T15:56:45Z</dcterms:modified>
  <cp:revision>2</cp:revision>
  <dc:subject/>
  <dc:title>LA CLASE DE ESPANOL</dc:title>
</cp:coreProperties>
</file>